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0AE5-8A7B-46C3-B22A-DCDD84EB3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8836-57EB-4171-934E-16328B8160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C2D6-D81A-4584-B171-49287C6026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E737-7828-4F4A-8847-C7CC4E52E9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FF14-FC1E-4D66-A5F8-6AD64F1E11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8D65-44D6-4B7D-B885-2C46BB7A48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52EB-DDF3-4709-9BE6-DD5F08F416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CF6B-D5FD-4F69-8E68-79411B0162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A335-86C3-406A-B6E3-EE1778ED06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181A-53B6-4F0A-B18D-6BDFEA7EAE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B1F8-5F19-42E6-B311-5BF2E0B70D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72D4-0543-47AB-969F-BD3AA35BCF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08C1-D5DC-4A0D-9645-1F3CBBBCD4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4620-CBCD-43AF-9C14-6943E85106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7DF4-37A2-4F36-88CE-BA5CFF42CE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E8E9-5805-4A2B-B2C6-C1E4E46525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4AAB-0B1D-47E4-8056-E17BCAA36C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9F53-6396-4682-BD80-1834D585B2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14A9-A8A7-4991-994D-BC6DBB0D7C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DF46-C876-4FF2-8E59-CD421735F7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B2A7-8A9F-4FEB-9FDA-4DC63D95F5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390F-ACB9-41BC-81EC-D78159EF4A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C99-65A6-46D5-B609-5DB65818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A90D-4C4E-402E-958F-1841FB4B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3DF-A048-46BF-8E76-A4F96013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922-C96A-49A7-B813-98FC8F52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26FB-227C-4C91-B111-D645980A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83FD-022E-4C80-8AA5-312206ED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F465-8501-4E73-A0C7-36ED1B1B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E681-C9B0-4955-9DCD-6BD4CDEE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7676-3BCE-4EDE-A312-D0CE4A5D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DB21-BA3E-44B9-BEA6-8D668E45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8BA3-0217-48B7-B418-76C65716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5E2F-1933-47A6-95E6-683B30AC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308B-1D07-4054-99A4-F8723A5F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0893-894C-44F6-878A-189A3E85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3E8C-2B32-42EB-9E82-93DE0D90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6448-5440-4875-B7C9-E680D481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556C-DF9E-4433-ADBA-4D0A6D2E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7894-99EE-423E-B56C-AAAC150C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EEC87-5215-4AA8-803B-9D34D81D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D54F-B9C6-4A2C-B3D8-81E73CE7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EF57-E627-4AB5-8D86-15BDBC5F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9847E-81CA-4C0C-9A9F-D9C46EE5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6D6-1056-4712-B682-CE66EAF2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8062A-0CD0-4B00-9B76-49697AE2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F7DB1-FE48-4567-B04A-392BEC16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D4CED-DC30-41E8-9B1D-82C80801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88E0E-B6BA-44A7-B887-B1E4EC68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AD8D-B066-4B31-BEE2-4FC0550D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37A82-DF16-49DA-A334-BF4072FA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09A52-70C6-4856-84DA-CA7C9423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5B61-DB67-422A-A4E9-24600E45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858C-0790-440A-A5AF-EBA935CE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3D025-314E-4F18-9BC0-7CBECCC3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A90-073C-468A-9E36-F1527F43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249C8-D6FC-4171-A296-7723FCDD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FE79F-1A3D-4D17-976F-2868FA31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01CEB-961A-4F6A-9610-B2C38926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09A07-84E5-4520-A176-49DC3E75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A1F65-C092-4D55-A7CF-A2221848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E24EF-3A23-4A05-A67A-5B5FB029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FAAD5-7941-4BD3-B957-E489240B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E4AF8-FCC1-47A3-8790-B011AB0F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D8AE1-2275-4453-9FBB-7406D619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321-B5D6-47B7-80DF-6F4F1158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1DA-7CCB-46BE-97A0-624A5E35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54F-A7DF-4C5D-BE17-2F233C88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76D-0D40-4EAE-BAD0-31850287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EF0-903C-4389-BC5F-CCF2346F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030B-92DC-44E7-A34B-EF8402D37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984E-9A5E-4607-8334-55B43B950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434C-271B-4E9A-90DD-AD2BD6C20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58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a58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217D-F8BC-40E6-A605-439D4DF4A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EW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o in this equation you have </a:t>
            </a:r>
            <a:r>
              <a:rPr b="0" lang="en-US" sz="4000" spc="-1" strike="noStrike">
                <a:solidFill>
                  <a:srgbClr val="00ff00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x 1 sodium atoms being added to 2 chlorine atoms yielding </a:t>
            </a:r>
            <a:r>
              <a:rPr b="0" lang="en-US" sz="4000" spc="-1" strike="noStrike">
                <a:solidFill>
                  <a:srgbClr val="00ff00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x 1 sodium chloride molecu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3429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When we balance chemical equations, we need to figure out what coefficients to us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o do that, we list how many atoms of each element we start with, then use math to figure out the coefficien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n this equation, we start with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ur hydrogen is balanced, but we don’t have enough oxygen in the produ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86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e need to make our best mathematical guess as to which coefficient will bring balance to the equ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e need two oxygen atoms, so lets try a coefficient of 2 in front of the produ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19"/>
          <p:cNvSpPr/>
          <p:nvPr/>
        </p:nvSpPr>
        <p:spPr>
          <a:xfrm>
            <a:off x="53341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Multiply that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by the subscripts for each atom in the produ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9"/>
          <p:cNvSpPr/>
          <p:nvPr/>
        </p:nvSpPr>
        <p:spPr>
          <a:xfrm>
            <a:off x="53341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952880" y="5791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495288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Now we have enough oxygen, but too much hydrogen.  How do we balance 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 Box 19"/>
          <p:cNvSpPr/>
          <p:nvPr/>
        </p:nvSpPr>
        <p:spPr>
          <a:xfrm>
            <a:off x="53341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952880" y="5791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495288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0" y="2286000"/>
            <a:ext cx="91440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f we put a coefficient of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n front of the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on the reactants side, we can balance the equ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-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 Box 19"/>
          <p:cNvSpPr/>
          <p:nvPr/>
        </p:nvSpPr>
        <p:spPr>
          <a:xfrm>
            <a:off x="53341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4952880" y="5791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95288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304812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23623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When pieces of matter come together or break apart, it is called a </a:t>
            </a:r>
            <a:r>
              <a:rPr b="0" i="1" lang="en-US" sz="3000" spc="-1" strike="noStrike">
                <a:solidFill>
                  <a:srgbClr val="ffffff"/>
                </a:solidFill>
                <a:latin typeface="Trebuchet MS"/>
              </a:rPr>
              <a:t>reaction</a:t>
            </a: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e law of conservation of matter states that matter can not be created or destroy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In any reaction, you must have the same amount of each part before and after the reaction happe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We show how reactions become </a:t>
            </a:r>
            <a:r>
              <a:rPr b="0" i="1" lang="en-US" sz="3000" spc="-1" strike="noStrike">
                <a:solidFill>
                  <a:srgbClr val="ffffff"/>
                </a:solidFill>
                <a:latin typeface="Trebuchet MS"/>
              </a:rPr>
              <a:t>balanced</a:t>
            </a: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 by using </a:t>
            </a:r>
            <a:r>
              <a:rPr b="0" i="1" lang="en-US" sz="3000" spc="-1" strike="noStrike">
                <a:solidFill>
                  <a:srgbClr val="ffffff"/>
                </a:solidFill>
                <a:latin typeface="Trebuchet MS"/>
              </a:rPr>
              <a:t>chemical equa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ultiply the number of atoms you have by coefficients to balance equa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ultiply coefficients by every subscript until you hit a + or a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Never, ever,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EVER</a:t>
            </a: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 change a subscrip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ke a list of how much of each atom you have and change it as you add coefficients to your equ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00"/>
                </a:solidFill>
                <a:latin typeface="Trebuchet MS"/>
              </a:rPr>
              <a:t>If there are poly-atomic ions on both sides of your equation, don’t separate them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rebuchet MS"/>
              </a:rPr>
              <a:t>Quick Che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___Al(OH)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+ 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___A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+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981080" y="3429000"/>
            <a:ext cx="541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is is a balanced chemical equ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34290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rrow is called the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yields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sign.  It separates what you start with on the left from what you end up with on the righ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0" y="34290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o the left of the yields sign are the parts that react.  They are called the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reactants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34290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o the right of the yields sign is what you end up with after the reaction.  These are called the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products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0" y="3429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little number next to and below an element is called a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subscript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.  We have been using them all along.  </a:t>
            </a: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We never change subscripts in a chemical equ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0" y="3429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big numbers next to the elements or compounds are called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coefficients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.  These are the only things we can change in a chemical equ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0" y="3429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oefficients tell us the amount of each compound or element we have.  You multiply the subscript for each element to the right of a coefficient until you are stopped by a + or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4:42:51Z</dcterms:created>
  <dc:creator>Andrea Pascasio</dc:creator>
  <dc:description/>
  <dc:language>en-US</dc:language>
  <cp:lastModifiedBy>Andrea Pascasio</cp:lastModifiedBy>
  <dcterms:modified xsi:type="dcterms:W3CDTF">2008-12-02T05:00:46Z</dcterms:modified>
  <cp:revision>3</cp:revision>
  <dc:subject/>
  <dc:title>BALANCING CHEMICAL EQU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